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23F-CE31-4F12-B6D4-17206109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42E-24A2-4EED-86CD-13FDF5D2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6AE80-0826-4195-9A2F-9E57139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6733-C9CA-42AF-9DF8-FE1C06B3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2E3D-4793-4757-8746-100AB61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D887-CDE6-4AEB-BD5F-4078595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09F43-0F5A-47AE-90FB-72A0B59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06224-B374-4E76-9C55-3613C95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1733F-E33D-44B8-98F1-E2BDCD3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E61AC-FF3F-4056-B86E-6D18215F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FE44A-EA80-4DB0-80AF-4D59B6CD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C7B-CC81-410E-B621-BE6BD20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C73-F13D-45B8-ADED-7591EFB7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37C8-8168-47E2-AA77-648B6925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72C1-49FF-4C68-80F2-FF9EEA2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DA89-FAB3-4E11-9CC5-F14EA341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27AA-D9CA-42E0-AF5D-F99CAF4D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3B57-E8B2-4287-8497-0E7ED345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71D8-AAAC-4C66-826C-DE4E488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BCE-7762-46BC-930A-D84B3BA5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5B3-99B5-4D95-8F4A-7675AB8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8A48-3810-4F71-A9DE-DFC637D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1C7-F1AE-46AB-A581-74E472B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1B28-34E9-4B82-B139-12C870C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2227-2CB3-437E-90F0-9DB36AD4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42E3-2A8D-4FCE-8708-FF7A67D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442C-1A42-45AE-A5BA-0FD991D4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647F-73E9-4791-9B52-E42F6FF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B0B1-3429-452A-957F-BF3229A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E583-A8C3-46A2-B2FC-1AA64FC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26EE-F6C2-40DB-B401-8135B9B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44C-83F9-4A45-AD60-7223DBE1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1162-34FB-4CFB-8510-CACFD3B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C5E-9B8C-4BA9-BD9C-A07BE82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2002-9E39-4C1F-93AE-46B1A71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53BD-88D9-4232-907F-5656A4C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61FE-6214-4C38-875B-EAFCE9C0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85E1-6F36-4296-B334-379804D0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58B8-9B61-43B9-8FA8-44643FE6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CE32-2676-425F-8A11-3272A931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C19E-0D48-4EB9-B4DE-EAF0C7B6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BC2D-0A6E-4BF9-8E34-B0604CC0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BA0-A8F4-49E3-9771-D47687A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6E16-B595-4643-936C-0387B00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78965-25D8-454F-AA07-860B0AC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1B49-9FC5-49CC-9E12-CCE6EC5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E4D9-12AC-4A78-9A76-0C60B32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EA9E-70D2-42EE-8358-DF1B319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8FFB-8439-4BCC-926F-0DD0C5C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3B7D-8282-44C0-97BF-61F0F1CC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F069-C991-48B1-A2EC-A15BF2D9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14EC-2EF4-46CB-B271-74948A10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00A19-121D-4E54-9F58-CD224172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EE6-1391-47F4-A221-941CBF40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5107-9F8C-4A48-9FD1-A27F50B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344F-E841-446A-82C6-4138685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334A4-7242-4045-810F-1CD52C7B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6712-1BCF-47D9-BEF1-21A2897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DD8D-DCD2-498D-9F79-0FFA453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D81C-524C-435B-B864-411677A7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51FE-9F1A-498C-A0D6-EF6F8CD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5D2A-AB70-44C3-A962-A389D6B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2F42-4548-4048-876D-16E457A7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29D4-4FDF-46C7-8ABE-B55EB5B7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E2C-4DFC-40A2-BF07-964B2E7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69B2-4AC1-4C45-9067-E369A49F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F2D2-C873-425C-89D7-753DC1F6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4D48-AF7D-4E55-8452-90AD8AF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5DFA-5DF6-4A61-82FC-4B7810C9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AA90-1CBF-47C7-A3B4-1C48CE92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50FB-9D9F-46E8-B661-1B5B5C4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51F6-8F7F-4A61-9D46-B56E73F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C8A9-5C42-4286-AE83-7026E5D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3BB7-3453-4AF0-8574-BA71CF5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09AF-2026-4375-8EA1-B9980EB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1EF-A377-4FEF-8E54-10E84B5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A40B2-29D3-47F9-BD06-213C6FA8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9F2A-401A-4535-AA74-220C71F0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8DCD-BAB9-4686-9102-E3BF5329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597B-4DE3-41E0-911C-15239AB1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EACB-CC10-4EC7-8F7E-1300FD69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BD51-CA4A-4980-A174-4CAB3EFD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E5F0-6EEB-48A0-BF31-89F82994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6D65-C72E-4EF6-9760-465BF4E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441F5-42E8-4B8B-A1DA-6B551203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6A69-D8CD-417F-A02C-84B0182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0D0-926F-4517-A87B-7D4D308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B5A2-DCFB-4FCC-AC6D-445926E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9415-BD5A-41EC-93DA-17D8D5D7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5E85-0C03-40B3-A910-0A50663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CBF7-C729-497E-962A-5DC4C88A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8C1C-E1B0-4B98-B3C1-B30C6037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2703-120E-45B3-872B-E7F40C09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62138-9AE5-4442-BD5F-CFD0A14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F472-BA5A-4574-B7A6-F7ED749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2FAA-D0FD-4A42-B115-D3DABDBF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BB10D-175C-44CF-8F9F-2D10D06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D80-DD9E-4F40-AE94-67A340C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6487C-9CCA-4CA9-99D2-3B5AE7E6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6A06B-69CD-42A5-94E5-EC7AE504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C7555-57E4-4777-8FEB-31F2850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F748-9DC8-4DDA-8F02-49F059F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31305-FCBA-4BF6-924B-F1B880F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D789D-5C50-400E-ADDB-A283EC89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A27EB-B725-4DA3-8B71-95E42F61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9BDE4-6E76-49BF-B3EC-243FE3C7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6EFF3-B8FA-4DBA-A252-658181B9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DE3B-D32F-45B8-B123-2C227F55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406-8B24-4A47-99B4-196A6FDE4A4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9E5-E0AF-4ADF-BE4A-8350F9F5792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DC0-CAB3-4886-8A9D-5757C136DA7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5BA-C991-4F1C-A5D7-DC6B60C7642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1B6-F3F1-43EC-B90A-D74B8FF3DEA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EFE-5920-4148-9B73-7AB83AC7C67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B21E-BC9E-4964-B60B-BF59F79A864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6AFC-C264-4EA3-8541-37FF531284C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AB1-974B-40BA-B721-3B1258A9877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www.urjc.es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ucm.es/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upm.es/" TargetMode="External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171360" y="23760"/>
            <a:ext cx="8801280" cy="2786040"/>
          </a:xfrm>
          <a:prstGeom prst="rect">
            <a:avLst/>
          </a:prstGeom>
          <a:ln w="0">
            <a:noFill/>
          </a:ln>
        </p:spPr>
      </p:pic>
      <p:sp>
        <p:nvSpPr>
          <p:cNvPr id="400" name="19 CuadroTexto"/>
          <p:cNvSpPr/>
          <p:nvPr/>
        </p:nvSpPr>
        <p:spPr>
          <a:xfrm>
            <a:off x="1476360" y="5589720"/>
            <a:ext cx="65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áster Oficial en Restauración de Eco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Isabel Prad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escudo_UAH"/>
          <p:cNvPicPr/>
          <p:nvPr/>
        </p:nvPicPr>
        <p:blipFill>
          <a:blip r:embed="rId2"/>
          <a:stretch/>
        </p:blipFill>
        <p:spPr>
          <a:xfrm>
            <a:off x="539640" y="4221000"/>
            <a:ext cx="1143000" cy="454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2" name="Picture 8" descr="Universidad Rey Juan Carlos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2708280"/>
            <a:ext cx="1285920" cy="4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3" name="Picture 12" descr="Logotipo de la UCM, pulse para acceder a la página princip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2781360"/>
            <a:ext cx="1222200" cy="46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4" name="Picture 15" descr="UP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3933720"/>
            <a:ext cx="606240" cy="6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05" name="Picture 2" descr="cordovilla_enp_foto5"/>
          <p:cNvPicPr/>
          <p:nvPr/>
        </p:nvPicPr>
        <p:blipFill>
          <a:blip r:embed="rId9"/>
          <a:stretch/>
        </p:blipFill>
        <p:spPr>
          <a:xfrm>
            <a:off x="2340000" y="2565360"/>
            <a:ext cx="39546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3 CuadroTexto"/>
          <p:cNvSpPr/>
          <p:nvPr/>
        </p:nvSpPr>
        <p:spPr>
          <a:xfrm>
            <a:off x="971640" y="1208160"/>
            <a:ext cx="7777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Importancia del “Saladar de Cordov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Fragmentación de las dos Áreas Críticas descritas en el Plan de Recuperación (desconexión con el núcleo poblacional Casa Sis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Tasa finita de crecimiento del núcleo de Cordovill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robabilidad de extinción del núcleo poblacional de Cordovilla de un 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ORN conservar los hábitat pertenecientes a la Directiva 79/409/CEE (LIC “Saladar de Cordovilla y Agramón y Laguna de Alboraj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Plan de Recuperación : “garantizar la conservación y recuperación de la población y hábitat del endemismo Ibérico considerando la necesidad de llevar a cabo un programa de Restitu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4 CuadroTexto"/>
          <p:cNvSpPr/>
          <p:nvPr/>
        </p:nvSpPr>
        <p:spPr>
          <a:xfrm>
            <a:off x="900000" y="1484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Reintroducción</a:t>
            </a: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Franklin Gothic Book"/>
              </a:rPr>
              <a:t>Vs.</a:t>
            </a: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Franklin Gothic Book"/>
              </a:rPr>
              <a:t>Refor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1584360" y="2349360"/>
            <a:ext cx="6191280" cy="4102200"/>
          </a:xfrm>
          <a:prstGeom prst="rect">
            <a:avLst/>
          </a:prstGeom>
          <a:ln w="0">
            <a:noFill/>
          </a:ln>
        </p:spPr>
      </p:pic>
      <p:sp>
        <p:nvSpPr>
          <p:cNvPr id="464" name="8 Elipse"/>
          <p:cNvSpPr/>
          <p:nvPr/>
        </p:nvSpPr>
        <p:spPr>
          <a:xfrm>
            <a:off x="1619280" y="1268280"/>
            <a:ext cx="2808360" cy="108108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0 Conector recto"/>
          <p:cNvSpPr/>
          <p:nvPr/>
        </p:nvSpPr>
        <p:spPr>
          <a:xfrm>
            <a:off x="4680000" y="1484280"/>
            <a:ext cx="3132000" cy="64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1 Conector recto"/>
          <p:cNvSpPr/>
          <p:nvPr/>
        </p:nvSpPr>
        <p:spPr>
          <a:xfrm flipH="1">
            <a:off x="4679640" y="1483560"/>
            <a:ext cx="3205080" cy="58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4 Elipse"/>
          <p:cNvSpPr/>
          <p:nvPr/>
        </p:nvSpPr>
        <p:spPr>
          <a:xfrm>
            <a:off x="3995640" y="4292640"/>
            <a:ext cx="216000" cy="216000"/>
          </a:xfrm>
          <a:prstGeom prst="ellipse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5 CuadroTexto"/>
          <p:cNvSpPr/>
          <p:nvPr/>
        </p:nvSpPr>
        <p:spPr>
          <a:xfrm>
            <a:off x="34920" y="3208320"/>
            <a:ext cx="216072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Hist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6 Rectángulo"/>
          <p:cNvSpPr/>
          <p:nvPr/>
        </p:nvSpPr>
        <p:spPr>
          <a:xfrm>
            <a:off x="7074000" y="3208320"/>
            <a:ext cx="2070000" cy="64260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7 Rectángulo"/>
          <p:cNvSpPr/>
          <p:nvPr/>
        </p:nvSpPr>
        <p:spPr>
          <a:xfrm>
            <a:off x="7039440" y="5013360"/>
            <a:ext cx="213912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Logí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8 Rectángulo"/>
          <p:cNvSpPr/>
          <p:nvPr/>
        </p:nvSpPr>
        <p:spPr>
          <a:xfrm>
            <a:off x="240840" y="5013360"/>
            <a:ext cx="1748880" cy="36828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rite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1 Título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473" name="3 CuadroTexto"/>
          <p:cNvSpPr/>
          <p:nvPr/>
        </p:nvSpPr>
        <p:spPr>
          <a:xfrm>
            <a:off x="144360" y="1052640"/>
            <a:ext cx="88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Objetivo general: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inimizar el riesgo de extinción como puesta en marcha de los procesos básicos de establecimiento, reproducción y dispersión alcanzando una población autosostenible y la no fragmentación de las Áreas Crí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534960" y="2478240"/>
            <a:ext cx="8074080" cy="419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5" name="5 CuadroTexto"/>
          <p:cNvSpPr/>
          <p:nvPr/>
        </p:nvSpPr>
        <p:spPr>
          <a:xfrm>
            <a:off x="250920" y="2060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66760" y="214200"/>
            <a:ext cx="8697960" cy="23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77" name="10 Grupo"/>
          <p:cNvGrpSpPr/>
          <p:nvPr/>
        </p:nvGrpSpPr>
        <p:grpSpPr>
          <a:xfrm>
            <a:off x="900000" y="2781360"/>
            <a:ext cx="4319640" cy="3887640"/>
            <a:chOff x="900000" y="2781360"/>
            <a:chExt cx="4319640" cy="3887640"/>
          </a:xfrm>
        </p:grpSpPr>
        <p:sp>
          <p:nvSpPr>
            <p:cNvPr id="478" name="8 Elipse"/>
            <p:cNvSpPr/>
            <p:nvPr/>
          </p:nvSpPr>
          <p:spPr>
            <a:xfrm>
              <a:off x="900000" y="2781360"/>
              <a:ext cx="4319640" cy="388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9 Elipse"/>
            <p:cNvGrpSpPr/>
            <p:nvPr/>
          </p:nvGrpSpPr>
          <p:grpSpPr>
            <a:xfrm>
              <a:off x="1328760" y="4779360"/>
              <a:ext cx="3060360" cy="1828800"/>
              <a:chOff x="1328760" y="4779360"/>
              <a:chExt cx="3060360" cy="1828800"/>
            </a:xfrm>
          </p:grpSpPr>
          <p:pic>
            <p:nvPicPr>
              <p:cNvPr id="480" name="9 Elipse" descr=""/>
              <p:cNvPicPr/>
              <p:nvPr/>
            </p:nvPicPr>
            <p:blipFill>
              <a:blip r:embed="rId2"/>
              <a:stretch/>
            </p:blipFill>
            <p:spPr>
              <a:xfrm>
                <a:off x="1328760" y="4779360"/>
                <a:ext cx="306036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 rot="747000">
                <a:off x="1832040" y="5100840"/>
                <a:ext cx="206064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Núcleo 1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1000 Individu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1000 m</a:t>
                </a:r>
                <a:r>
                  <a:rPr b="0" lang="es-ES" sz="18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10 Elipse"/>
            <p:cNvGrpSpPr/>
            <p:nvPr/>
          </p:nvGrpSpPr>
          <p:grpSpPr>
            <a:xfrm>
              <a:off x="3316320" y="3596400"/>
              <a:ext cx="1798200" cy="1706760"/>
              <a:chOff x="3316320" y="3596400"/>
              <a:chExt cx="1798200" cy="1706760"/>
            </a:xfrm>
          </p:grpSpPr>
          <p:pic>
            <p:nvPicPr>
              <p:cNvPr id="483" name="10 Elipse" descr=""/>
              <p:cNvPicPr/>
              <p:nvPr/>
            </p:nvPicPr>
            <p:blipFill>
              <a:blip r:embed="rId3"/>
              <a:stretch/>
            </p:blipFill>
            <p:spPr>
              <a:xfrm>
                <a:off x="3316320" y="3596400"/>
                <a:ext cx="1798200" cy="17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3653280" y="3866400"/>
                <a:ext cx="112716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Núcleo 2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650 I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Franklin Gothic Book"/>
                  </a:rPr>
                  <a:t>650m</a:t>
                </a:r>
                <a:r>
                  <a:rPr b="0" lang="es-ES" sz="16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11 Elipse"/>
            <p:cNvGrpSpPr/>
            <p:nvPr/>
          </p:nvGrpSpPr>
          <p:grpSpPr>
            <a:xfrm>
              <a:off x="1554120" y="3267360"/>
              <a:ext cx="1859400" cy="1225080"/>
              <a:chOff x="1554120" y="3267360"/>
              <a:chExt cx="1859400" cy="1225080"/>
            </a:xfrm>
          </p:grpSpPr>
          <p:pic>
            <p:nvPicPr>
              <p:cNvPr id="486" name="11 Elipse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4120" y="3267360"/>
                <a:ext cx="185940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900440" y="3465360"/>
                <a:ext cx="11718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Núcleo 3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350 I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Franklin Gothic Book"/>
                  </a:rPr>
                  <a:t>350m</a:t>
                </a:r>
                <a:r>
                  <a:rPr b="0" lang="es-ES" sz="1800" spc="-1" strike="noStrike" baseline="30000">
                    <a:solidFill>
                      <a:srgbClr val="ffffff"/>
                    </a:solidFill>
                    <a:latin typeface="Franklin Gothic Book"/>
                  </a:rPr>
                  <a:t>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14 Grupo"/>
          <p:cNvGrpSpPr/>
          <p:nvPr/>
        </p:nvGrpSpPr>
        <p:grpSpPr>
          <a:xfrm>
            <a:off x="5580000" y="3730680"/>
            <a:ext cx="3286080" cy="2071080"/>
            <a:chOff x="5580000" y="3730680"/>
            <a:chExt cx="3286080" cy="2071080"/>
          </a:xfrm>
        </p:grpSpPr>
        <p:grpSp>
          <p:nvGrpSpPr>
            <p:cNvPr id="489" name="11 Grupo"/>
            <p:cNvGrpSpPr/>
            <p:nvPr/>
          </p:nvGrpSpPr>
          <p:grpSpPr>
            <a:xfrm>
              <a:off x="5580000" y="3730680"/>
              <a:ext cx="3286080" cy="1353600"/>
              <a:chOff x="5580000" y="3730680"/>
              <a:chExt cx="3286080" cy="1353600"/>
            </a:xfrm>
          </p:grpSpPr>
          <p:sp>
            <p:nvSpPr>
              <p:cNvPr id="490" name="8 CuadroTexto"/>
              <p:cNvSpPr/>
              <p:nvPr/>
            </p:nvSpPr>
            <p:spPr>
              <a:xfrm>
                <a:off x="5758560" y="3730680"/>
                <a:ext cx="292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Área total de reintroduc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2000m</a:t>
                </a:r>
                <a:r>
                  <a:rPr b="0" lang="es-ES" sz="1800" spc="-1" strike="noStrike" baseline="30000">
                    <a:solidFill>
                      <a:srgbClr val="000000"/>
                    </a:solidFill>
                    <a:latin typeface="Calibri"/>
                  </a:rPr>
                  <a:t> 2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 =0,2 H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9 CuadroTexto"/>
              <p:cNvSpPr/>
              <p:nvPr/>
            </p:nvSpPr>
            <p:spPr>
              <a:xfrm>
                <a:off x="5580000" y="4441680"/>
                <a:ext cx="328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Individuos totales a reintroducir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2000 Individu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12 CuadroTexto"/>
            <p:cNvSpPr/>
            <p:nvPr/>
          </p:nvSpPr>
          <p:spPr>
            <a:xfrm>
              <a:off x="5580000" y="5159160"/>
              <a:ext cx="32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ensidad de individuos/ m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 2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1 Ind/m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Calibri"/>
                </a:rPr>
                <a:t>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4 CuadroTexto"/>
          <p:cNvSpPr/>
          <p:nvPr/>
        </p:nvSpPr>
        <p:spPr>
          <a:xfrm>
            <a:off x="468360" y="134136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2493  semillas recogidas de </a:t>
            </a:r>
            <a:r>
              <a:rPr b="1" i="1" lang="es-ES" sz="1800" spc="-1" strike="noStrike">
                <a:solidFill>
                  <a:srgbClr val="000000"/>
                </a:solidFill>
                <a:latin typeface="Franklin Gothic Book"/>
              </a:rPr>
              <a:t>in s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194 sem/d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</a:rPr>
              <a:t> 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2832 millones de 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úmero de genotipos: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Maxim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ipo de individuos a reintroduc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lántulas (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productor 2 (1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250920" y="3664080"/>
            <a:ext cx="4105080" cy="14205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4392720" y="3651120"/>
            <a:ext cx="47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atriz de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mayor contribución a la re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mayor supervivencia de individuos adu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2: poca super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3"/>
          <a:stretch/>
        </p:blipFill>
        <p:spPr>
          <a:xfrm>
            <a:off x="179280" y="5216400"/>
            <a:ext cx="4176720" cy="1449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4"/>
          <p:cNvSpPr/>
          <p:nvPr/>
        </p:nvSpPr>
        <p:spPr>
          <a:xfrm>
            <a:off x="4643280" y="553104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atriz de e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ase 4: los más importantes para mantener la viabilidad de l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Elipse"/>
          <p:cNvSpPr/>
          <p:nvPr/>
        </p:nvSpPr>
        <p:spPr>
          <a:xfrm>
            <a:off x="5435640" y="1341360"/>
            <a:ext cx="3529080" cy="2232000"/>
          </a:xfrm>
          <a:prstGeom prst="ellipse">
            <a:avLst/>
          </a:prstGeom>
          <a:solidFill>
            <a:srgbClr val="0ea231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ado Guer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1,5 plantas/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Franklin Gothic Book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4,5 plántulas/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Franklin Gothic Book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52916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5219640" y="135000"/>
            <a:ext cx="2181240" cy="35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71280" y="4221000"/>
            <a:ext cx="4500720" cy="256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3" name="Picture 5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392720" cy="25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4" name="7 Rectángulo"/>
          <p:cNvSpPr/>
          <p:nvPr/>
        </p:nvSpPr>
        <p:spPr>
          <a:xfrm>
            <a:off x="144360" y="371628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=</a:t>
            </a:r>
            <a:r>
              <a:rPr b="1" lang="es-ES" sz="1800" spc="-1" strike="noStrike">
                <a:solidFill>
                  <a:srgbClr val="0ea231"/>
                </a:solidFill>
                <a:latin typeface="Franklin Gothic Book"/>
              </a:rPr>
              <a:t>1,1034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8 CuadroTexto"/>
          <p:cNvSpPr/>
          <p:nvPr/>
        </p:nvSpPr>
        <p:spPr>
          <a:xfrm>
            <a:off x="826920" y="1159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9 CuadroTexto"/>
          <p:cNvSpPr/>
          <p:nvPr/>
        </p:nvSpPr>
        <p:spPr>
          <a:xfrm>
            <a:off x="7451640" y="71604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MV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Franklin Gothic Book"/>
              </a:rPr>
              <a:t> Helianthemum juliae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(PMV=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e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52916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8" name="Picture 3" descr=""/>
          <p:cNvPicPr/>
          <p:nvPr/>
        </p:nvPicPr>
        <p:blipFill>
          <a:blip r:embed="rId2"/>
          <a:stretch/>
        </p:blipFill>
        <p:spPr>
          <a:xfrm>
            <a:off x="5219640" y="135000"/>
            <a:ext cx="2181240" cy="35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9" name="Picture 4" descr=""/>
          <p:cNvPicPr/>
          <p:nvPr/>
        </p:nvPicPr>
        <p:blipFill>
          <a:blip r:embed="rId3"/>
          <a:stretch/>
        </p:blipFill>
        <p:spPr>
          <a:xfrm>
            <a:off x="71280" y="4221000"/>
            <a:ext cx="4500720" cy="256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0" name="Picture 5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392720" cy="25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1" name="7 Rectángulo"/>
          <p:cNvSpPr/>
          <p:nvPr/>
        </p:nvSpPr>
        <p:spPr>
          <a:xfrm>
            <a:off x="144360" y="371628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=</a:t>
            </a:r>
            <a:r>
              <a:rPr b="1" lang="es-ES" sz="1800" spc="-1" strike="noStrike">
                <a:solidFill>
                  <a:srgbClr val="0ea231"/>
                </a:solidFill>
                <a:latin typeface="Franklin Gothic Book"/>
              </a:rPr>
              <a:t>1,1034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8 CuadroTexto"/>
          <p:cNvSpPr/>
          <p:nvPr/>
        </p:nvSpPr>
        <p:spPr>
          <a:xfrm>
            <a:off x="826920" y="1159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uadroTexto"/>
          <p:cNvSpPr/>
          <p:nvPr/>
        </p:nvSpPr>
        <p:spPr>
          <a:xfrm>
            <a:off x="7451640" y="71604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MV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Ne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ff0000"/>
                </a:solidFill>
                <a:latin typeface="Franklin Gothic Book"/>
              </a:rPr>
              <a:t>?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Franklin Gothic Book"/>
              </a:rPr>
              <a:t> Helianthemum juliae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(Ne=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10 Rectángulo"/>
          <p:cNvGrpSpPr/>
          <p:nvPr/>
        </p:nvGrpSpPr>
        <p:grpSpPr>
          <a:xfrm>
            <a:off x="738360" y="1249200"/>
            <a:ext cx="7308720" cy="4140360"/>
            <a:chOff x="738360" y="1249200"/>
            <a:chExt cx="7308720" cy="4140360"/>
          </a:xfrm>
        </p:grpSpPr>
        <p:pic>
          <p:nvPicPr>
            <p:cNvPr id="515" name="10 Rectángulo" descr=""/>
            <p:cNvPicPr/>
            <p:nvPr/>
          </p:nvPicPr>
          <p:blipFill>
            <a:blip r:embed="rId5"/>
            <a:stretch/>
          </p:blipFill>
          <p:spPr>
            <a:xfrm>
              <a:off x="738360" y="1249200"/>
              <a:ext cx="730872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5640" y="1268280"/>
              <a:ext cx="727236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IMPORTANTE ELIMINACIÓN DE LAS CAUSAS DE DECLIVE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Vallado perimetral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 beneficiar Clase 4 y Clas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Riego de establecimiento y riego de mantenimiento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 beneficiar Clas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1793880" y="1571760"/>
            <a:ext cx="5586480" cy="466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1403280" y="1990800"/>
            <a:ext cx="6669000" cy="34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22" name="3 CuadroTexto"/>
          <p:cNvSpPr/>
          <p:nvPr/>
        </p:nvSpPr>
        <p:spPr>
          <a:xfrm>
            <a:off x="826920" y="162864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edidas comple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r condiciones favo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er causas de muerte para detectar posibles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hay dispersión: Programa de polinización contro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MV y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sición de ma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úsqueda de otros individu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lianthemum polygon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ir a todos los núcleos en el “Saladar de Cordovil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vigilancia para el Plan de 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aboración de infor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3 CuadroTexto"/>
          <p:cNvSpPr/>
          <p:nvPr/>
        </p:nvSpPr>
        <p:spPr>
          <a:xfrm>
            <a:off x="468360" y="1197000"/>
            <a:ext cx="849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 la e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ización 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bl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dencia poblacional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ificación del programa de re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restitución y jus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l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ización dem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imiento y monit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Título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97960" cy="1152720"/>
          </a:xfrm>
          <a:prstGeom prst="rect">
            <a:avLst/>
          </a:prstGeom>
          <a:ln w="0">
            <a:noFill/>
          </a:ln>
        </p:spPr>
      </p:pic>
      <p:sp>
        <p:nvSpPr>
          <p:cNvPr id="524" name="3 CuadroTexto"/>
          <p:cNvSpPr/>
          <p:nvPr/>
        </p:nvSpPr>
        <p:spPr>
          <a:xfrm>
            <a:off x="539640" y="944640"/>
            <a:ext cx="8353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rián Escudero &amp; José María Iriondo. “Restauración de poblaciones amenazadas”. Restauración de ecosistemas mediterráneos. Capítulo VI. 113-140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M. Pavik. “Demografic monitorin and recovery of endangered plants”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wler, M. y C. Whelin, editores. Recovery and restoration of endangered species: conceptual issues, planning, and implementation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mbriadge University Press, Cambriage.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PETE CARREÑO, Miguel Ángel; FERRANDIS GOTOR, Pablo y HERRANZ SANZ, José Mañ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“Aspectos de la biología poblacional y reproductiva del endemismo vegetal albacetens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polygonoi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Resultados preliminares”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9-2 16.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pete, M.A., J.M. Herranz, P. Ferrandis &amp; J.J. Martínez-Sánchez. 2001a. “Efecto de la eliminación del pastoreo sobre el banco edáfico de semillas de la especie amenazad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polygonoide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inado &amp; al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istaceae)”. XII International Conference of the International Association of Botanic Garden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órdoba, 18-24 de jun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creto 121/ 2006, de 12-12-2006, por el que se aprueba el Plan de Ordenación de los recursos naturales del Saladas de Cordovilla, en los términos municipales de Tobarra y Hellín de la provincia de Albacete, y se declara la reserva natural del Saladar de Cordovilla. Diario oficial de Castilla la Mancha. 27593-27606. Consejería de Medio Ambiente y Desarrollo Rural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CRETO 167/2006, de 14 de noviembre, por el que se aprueba el Plan de Recuperación del Cardo de Plata (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temmacantha cynaroi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) y de la Jarilla de Cumbre (“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Helianthemum julia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ordovilla_enp_foto5"/>
          <p:cNvPicPr/>
          <p:nvPr/>
        </p:nvPicPr>
        <p:blipFill>
          <a:blip r:embed="rId1"/>
          <a:stretch/>
        </p:blipFill>
        <p:spPr>
          <a:xfrm>
            <a:off x="1835280" y="2276640"/>
            <a:ext cx="5689440" cy="3638520"/>
          </a:xfrm>
          <a:prstGeom prst="rect">
            <a:avLst/>
          </a:prstGeom>
          <a:ln w="0">
            <a:noFill/>
          </a:ln>
        </p:spPr>
      </p:pic>
      <p:sp>
        <p:nvSpPr>
          <p:cNvPr id="526" name="4 CuadroTexto"/>
          <p:cNvSpPr/>
          <p:nvPr/>
        </p:nvSpPr>
        <p:spPr>
          <a:xfrm>
            <a:off x="2268360" y="119700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3 CuadroTexto"/>
          <p:cNvSpPr/>
          <p:nvPr/>
        </p:nvSpPr>
        <p:spPr>
          <a:xfrm>
            <a:off x="684360" y="1125360"/>
            <a:ext cx="11509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ea231"/>
                </a:solidFill>
                <a:latin typeface="Franklin Gothic Book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4 CuadroTexto"/>
          <p:cNvSpPr/>
          <p:nvPr/>
        </p:nvSpPr>
        <p:spPr>
          <a:xfrm>
            <a:off x="684360" y="5364000"/>
            <a:ext cx="18716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ea231"/>
                </a:solidFill>
                <a:latin typeface="Franklin Gothic Book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6 CuadroTexto"/>
          <p:cNvSpPr/>
          <p:nvPr/>
        </p:nvSpPr>
        <p:spPr>
          <a:xfrm>
            <a:off x="684360" y="1608120"/>
            <a:ext cx="727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Catálogo Regional de Especies Amenazadas de Castilla-La Mancha (Decreto 33/1998)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En peligro de 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tlas y libro rojo de la Flora Vascular Amenaza de España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En peligro crítico (B1 ab(iii)+2ab(iii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tribución geográfica reducida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xtensión de presencia &lt;100 k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 2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agmentación severa: 1 única localidad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minución continua basada en área de extensión y/o calidad de hábitat (b(ii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Área de ocupación &lt;10 k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 2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agmentación severa: 1 única localidad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isminución continua basada en área de extensión y/o calidad de hábitat (b(ii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7 CuadroTexto"/>
          <p:cNvSpPr/>
          <p:nvPr/>
        </p:nvSpPr>
        <p:spPr>
          <a:xfrm>
            <a:off x="684360" y="5940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UICN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 En peligro crítico (B1 ab(iii)+2ab(iii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782640" y="1484280"/>
            <a:ext cx="2133720" cy="2508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ordovilla_enp_foto5"/>
          <p:cNvPicPr/>
          <p:nvPr/>
        </p:nvPicPr>
        <p:blipFill>
          <a:blip r:embed="rId3"/>
          <a:stretch/>
        </p:blipFill>
        <p:spPr>
          <a:xfrm>
            <a:off x="3276720" y="2924280"/>
            <a:ext cx="2519280" cy="1612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"/>
          <p:cNvPicPr/>
          <p:nvPr/>
        </p:nvPicPr>
        <p:blipFill>
          <a:blip r:embed="rId4"/>
          <a:stretch/>
        </p:blipFill>
        <p:spPr>
          <a:xfrm>
            <a:off x="3419640" y="4686480"/>
            <a:ext cx="2232000" cy="183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2667240" cy="2067120"/>
          </a:xfrm>
          <a:prstGeom prst="rect">
            <a:avLst/>
          </a:prstGeom>
          <a:ln w="0">
            <a:noFill/>
          </a:ln>
        </p:spPr>
      </p:pic>
      <p:sp>
        <p:nvSpPr>
          <p:cNvPr id="418" name="8 CuadroTexto"/>
          <p:cNvSpPr/>
          <p:nvPr/>
        </p:nvSpPr>
        <p:spPr>
          <a:xfrm>
            <a:off x="3924360" y="1341360"/>
            <a:ext cx="50403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ltitud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500-6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Hábitat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zonas despejadas de saladar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iotop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Caméf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olinizaci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Entomófila gener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Dispersi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: Mirmecóc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http://www.hormigas.org/xImagenes/Messor/Messor%20bouvieri/images/mboukg1224minlat.jpg"/>
          <p:cNvPicPr/>
          <p:nvPr/>
        </p:nvPicPr>
        <p:blipFill>
          <a:blip r:embed="rId6"/>
          <a:stretch/>
        </p:blipFill>
        <p:spPr>
          <a:xfrm>
            <a:off x="6156360" y="3429000"/>
            <a:ext cx="27414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193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34920" y="1724040"/>
            <a:ext cx="7129440" cy="4722840"/>
          </a:xfrm>
          <a:prstGeom prst="rect">
            <a:avLst/>
          </a:prstGeom>
          <a:ln w="0">
            <a:noFill/>
          </a:ln>
        </p:spPr>
      </p:pic>
      <p:sp>
        <p:nvSpPr>
          <p:cNvPr id="424" name="5 CuadroTexto"/>
          <p:cNvSpPr/>
          <p:nvPr/>
        </p:nvSpPr>
        <p:spPr>
          <a:xfrm>
            <a:off x="7524720" y="2060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Área de ocup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&lt; 16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7524720" y="495468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aladar de Cordovilla”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294,61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3301920" cy="237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5705640" cy="172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325680" cy="208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1" name="16 Grupo"/>
          <p:cNvGrpSpPr/>
          <p:nvPr/>
        </p:nvGrpSpPr>
        <p:grpSpPr>
          <a:xfrm>
            <a:off x="4500720" y="4581360"/>
            <a:ext cx="1949400" cy="2016360"/>
            <a:chOff x="4500720" y="4581360"/>
            <a:chExt cx="1949400" cy="2016360"/>
          </a:xfrm>
        </p:grpSpPr>
        <p:pic>
          <p:nvPicPr>
            <p:cNvPr id="432" name="Picture 4" descr=""/>
            <p:cNvPicPr/>
            <p:nvPr/>
          </p:nvPicPr>
          <p:blipFill>
            <a:blip r:embed="rId3"/>
            <a:stretch/>
          </p:blipFill>
          <p:spPr>
            <a:xfrm>
              <a:off x="4500720" y="5013360"/>
              <a:ext cx="19494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11 CuadroTexto"/>
            <p:cNvSpPr/>
            <p:nvPr/>
          </p:nvSpPr>
          <p:spPr>
            <a:xfrm>
              <a:off x="4611600" y="45813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scomb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15 Grupo"/>
          <p:cNvGrpSpPr/>
          <p:nvPr/>
        </p:nvGrpSpPr>
        <p:grpSpPr>
          <a:xfrm>
            <a:off x="250920" y="4365720"/>
            <a:ext cx="3673440" cy="2205000"/>
            <a:chOff x="250920" y="4365720"/>
            <a:chExt cx="3673440" cy="2205000"/>
          </a:xfrm>
        </p:grpSpPr>
        <p:pic>
          <p:nvPicPr>
            <p:cNvPr id="435" name="Picture 5" descr=""/>
            <p:cNvPicPr/>
            <p:nvPr/>
          </p:nvPicPr>
          <p:blipFill>
            <a:blip r:embed="rId4"/>
            <a:stretch/>
          </p:blipFill>
          <p:spPr>
            <a:xfrm>
              <a:off x="250920" y="4789080"/>
              <a:ext cx="3673440" cy="17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12 CuadroTexto"/>
            <p:cNvSpPr/>
            <p:nvPr/>
          </p:nvSpPr>
          <p:spPr>
            <a:xfrm>
              <a:off x="815760" y="4365720"/>
              <a:ext cx="25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aminos y carret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14 Grupo"/>
          <p:cNvGrpSpPr/>
          <p:nvPr/>
        </p:nvGrpSpPr>
        <p:grpSpPr>
          <a:xfrm>
            <a:off x="6707160" y="4700520"/>
            <a:ext cx="2257560" cy="1897200"/>
            <a:chOff x="6707160" y="4700520"/>
            <a:chExt cx="2257560" cy="1897200"/>
          </a:xfrm>
        </p:grpSpPr>
        <p:pic>
          <p:nvPicPr>
            <p:cNvPr id="438" name="Picture 6" descr=""/>
            <p:cNvPicPr/>
            <p:nvPr/>
          </p:nvPicPr>
          <p:blipFill>
            <a:blip r:embed="rId5"/>
            <a:stretch/>
          </p:blipFill>
          <p:spPr>
            <a:xfrm>
              <a:off x="6707160" y="5046840"/>
              <a:ext cx="225756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13 CuadroTexto"/>
            <p:cNvSpPr/>
            <p:nvPr/>
          </p:nvSpPr>
          <p:spPr>
            <a:xfrm>
              <a:off x="7089840" y="4700520"/>
              <a:ext cx="149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xcav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19 Grupo"/>
          <p:cNvGrpSpPr/>
          <p:nvPr/>
        </p:nvGrpSpPr>
        <p:grpSpPr>
          <a:xfrm>
            <a:off x="560520" y="333360"/>
            <a:ext cx="1707840" cy="2016000"/>
            <a:chOff x="560520" y="333360"/>
            <a:chExt cx="1707840" cy="2016000"/>
          </a:xfrm>
        </p:grpSpPr>
        <p:pic>
          <p:nvPicPr>
            <p:cNvPr id="441" name="Picture 7" descr=""/>
            <p:cNvPicPr/>
            <p:nvPr/>
          </p:nvPicPr>
          <p:blipFill>
            <a:blip r:embed="rId6"/>
            <a:stretch/>
          </p:blipFill>
          <p:spPr>
            <a:xfrm>
              <a:off x="560520" y="670680"/>
              <a:ext cx="1707840" cy="16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18 CuadroTexto"/>
            <p:cNvSpPr/>
            <p:nvPr/>
          </p:nvSpPr>
          <p:spPr>
            <a:xfrm>
              <a:off x="619920" y="333360"/>
              <a:ext cx="15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a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22 Grupo"/>
          <p:cNvGrpSpPr/>
          <p:nvPr/>
        </p:nvGrpSpPr>
        <p:grpSpPr>
          <a:xfrm>
            <a:off x="6875640" y="395280"/>
            <a:ext cx="1873080" cy="1922400"/>
            <a:chOff x="6875640" y="395280"/>
            <a:chExt cx="1873080" cy="1922400"/>
          </a:xfrm>
        </p:grpSpPr>
        <p:pic>
          <p:nvPicPr>
            <p:cNvPr id="444" name="Picture 8" descr=""/>
            <p:cNvPicPr/>
            <p:nvPr/>
          </p:nvPicPr>
          <p:blipFill>
            <a:blip r:embed="rId7"/>
            <a:stretch/>
          </p:blipFill>
          <p:spPr>
            <a:xfrm>
              <a:off x="6875640" y="764640"/>
              <a:ext cx="1873080" cy="15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21 CuadroTexto"/>
            <p:cNvSpPr/>
            <p:nvPr/>
          </p:nvSpPr>
          <p:spPr>
            <a:xfrm>
              <a:off x="7019640" y="3952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Pastor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25 Grupo"/>
          <p:cNvGrpSpPr/>
          <p:nvPr/>
        </p:nvGrpSpPr>
        <p:grpSpPr>
          <a:xfrm>
            <a:off x="6732720" y="2676600"/>
            <a:ext cx="2087280" cy="1760400"/>
            <a:chOff x="6732720" y="2676600"/>
            <a:chExt cx="2087280" cy="1760400"/>
          </a:xfrm>
        </p:grpSpPr>
        <p:pic>
          <p:nvPicPr>
            <p:cNvPr id="447" name="Picture 10" descr="http://www.inia.cl/medios/semillas/triticales/aguacero2.jpg"/>
            <p:cNvPicPr/>
            <p:nvPr/>
          </p:nvPicPr>
          <p:blipFill>
            <a:blip r:embed="rId8"/>
            <a:stretch/>
          </p:blipFill>
          <p:spPr>
            <a:xfrm>
              <a:off x="6732720" y="3047760"/>
              <a:ext cx="208728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24 CuadroTexto"/>
            <p:cNvSpPr/>
            <p:nvPr/>
          </p:nvSpPr>
          <p:spPr>
            <a:xfrm>
              <a:off x="7052760" y="2676600"/>
              <a:ext cx="15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Cul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28 Grupo"/>
          <p:cNvGrpSpPr/>
          <p:nvPr/>
        </p:nvGrpSpPr>
        <p:grpSpPr>
          <a:xfrm>
            <a:off x="539640" y="2421000"/>
            <a:ext cx="1928880" cy="1981080"/>
            <a:chOff x="539640" y="2421000"/>
            <a:chExt cx="1928880" cy="1981080"/>
          </a:xfrm>
        </p:grpSpPr>
        <p:pic>
          <p:nvPicPr>
            <p:cNvPr id="450" name="Picture 12" descr="http://www.villadeayora.es/blog/wp-content/uploads/2009/10/rehabilitacion-casa-rectoral-f-goiriz-pantin-05-02-08-012.jpg"/>
            <p:cNvPicPr/>
            <p:nvPr/>
          </p:nvPicPr>
          <p:blipFill>
            <a:blip r:embed="rId9"/>
            <a:stretch/>
          </p:blipFill>
          <p:spPr>
            <a:xfrm>
              <a:off x="539640" y="2853000"/>
              <a:ext cx="19288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27 CuadroTexto"/>
            <p:cNvSpPr/>
            <p:nvPr/>
          </p:nvSpPr>
          <p:spPr>
            <a:xfrm>
              <a:off x="683640" y="242100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Book"/>
                </a:rPr>
                <a:t>Edific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29 Flecha abajo"/>
          <p:cNvSpPr/>
          <p:nvPr/>
        </p:nvSpPr>
        <p:spPr>
          <a:xfrm>
            <a:off x="4500720" y="1197000"/>
            <a:ext cx="358560" cy="50328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30 CuadroTexto"/>
          <p:cNvSpPr/>
          <p:nvPr/>
        </p:nvSpPr>
        <p:spPr>
          <a:xfrm>
            <a:off x="3132000" y="1835280"/>
            <a:ext cx="3024360" cy="368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Degradación del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5" name="9 Rectángulo"/>
          <p:cNvSpPr/>
          <p:nvPr/>
        </p:nvSpPr>
        <p:spPr>
          <a:xfrm>
            <a:off x="1203480" y="2246400"/>
            <a:ext cx="194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Tasa finita de crecimiento de la población  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decreciente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 (λ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es igual a 0, 94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7450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3560760" cy="203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14 Rectángulo"/>
          <p:cNvSpPr/>
          <p:nvPr/>
        </p:nvSpPr>
        <p:spPr>
          <a:xfrm>
            <a:off x="4572000" y="470700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obabilidad de extinción (UI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10-20 años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en 100 años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c00000"/>
                </a:solidFill>
                <a:latin typeface="Franklin Gothic Book"/>
              </a:rPr>
              <a:t>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8:11:05Z</dcterms:created>
  <dc:creator>amaya</dc:creator>
  <dc:description/>
  <dc:language>en-US</dc:language>
  <cp:lastModifiedBy>amaya</cp:lastModifiedBy>
  <dcterms:modified xsi:type="dcterms:W3CDTF">2010-06-18T14:18:58Z</dcterms:modified>
  <cp:revision>37</cp:revision>
  <dc:subject/>
  <dc:title>Propuesta de restitución de Helianthemum poligoniodes en la reserva natural “saladar de cordovilla”</dc:title>
</cp:coreProperties>
</file>